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9C5E-27BC-44D2-AEB4-02D0E6BB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CF1C-35B4-44EB-B304-B5AF5FF9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35F3-203B-4127-B0B9-D99A1665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9031-E15E-4B74-A247-BE01EE53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E33A-DCE4-40B1-A87F-2DD3D875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E93F-12F0-4A64-8568-FEEAE866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6A79-42EA-4F89-8651-CB476F44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95BE-EE83-4AC5-A69D-E72175B4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B107-65FC-4B52-858D-611A6504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8C71-844C-47CE-91B3-C06E5A98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FE8B-1DF5-4D19-86EF-EA35BF36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39C3-CF39-42A3-ADCB-2B5E4CDF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D741-0496-42E4-82AC-E5381876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3C7C-F2E5-4DB9-9065-551C1D79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14DD-62BC-4A0C-B9EF-5BA6147C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5745-4472-4534-81F5-AC76F509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12AC-C559-4E3A-AFC9-18618780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B4B9-6185-4F3F-9F69-D7A9779A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F7BC-60B0-4D4F-9B0D-53676F52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BC3F-5BEF-42BE-AB6D-E4D096AC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9963-C107-4A9A-AC2E-326646A1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84AC-C55F-4B9E-9A14-A2681DF9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C31B-1DFF-4926-8697-82A6495C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A5DD-D0B0-4BD1-A993-0AAC7702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5922-FEF5-41E0-BF6C-2359EC58E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50C0-788B-4F42-BCB2-7158C0CF8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89928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8692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9496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42880" y="175248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752480" y="3200400"/>
            <a:ext cx="54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mory clue for spelling Cemeter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773360" y="3200400"/>
            <a:ext cx="601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are three E’s as in Eeeck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861480" y="3276720"/>
            <a:ext cx="711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titles do we underline/ italiciz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915920" y="3168720"/>
            <a:ext cx="496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oks, movies, plays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104480" y="3124080"/>
            <a:ext cx="698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titles do we use quotations fo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533520" y="2971800"/>
            <a:ext cx="82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s of works or short works such as short stories, song titles, poems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915200" y="3168720"/>
            <a:ext cx="48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Loan a verb or a nou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3505320" y="3352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u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026720" y="3200400"/>
            <a:ext cx="663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mory clue for spelling Separa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2230200" y="32004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is a rat in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2819880" y="3200400"/>
            <a:ext cx="32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 a lot or alo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1371600" y="3048120"/>
            <a:ext cx="74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e sign that means ‘and’ in informal writ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3364920" y="320040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mpers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600200" y="3048120"/>
            <a:ext cx="609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a female pet is altered, she is _____, NOT spad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3818880" y="32004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ay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180080" y="3200400"/>
            <a:ext cx="709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nged is in past tense when 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2898360" y="3124080"/>
            <a:ext cx="27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life is tak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1066680" y="2895480"/>
            <a:ext cx="702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two parts of speech do we NOT put a color after when a list follow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2286000" y="28195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erb and prepos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1676520" y="2819520"/>
            <a:ext cx="589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mark of punctuation follows a salutation in a business lett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365760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l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3727800" y="320040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lo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81360" y="3200400"/>
            <a:ext cx="74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is it prescription, not perscrip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828800" y="304812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e’ means “before” and ‘script’ means “to write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905120" y="3048120"/>
            <a:ext cx="605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(Freshman, Freshmen) class is very sma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3515760" y="3124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eshm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1317960" y="3200400"/>
            <a:ext cx="656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aning of Personn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3365640" y="3124080"/>
            <a:ext cx="22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ploye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633320" y="3124080"/>
            <a:ext cx="595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numbers are hyphen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1619280" y="3124080"/>
            <a:ext cx="64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wenty- one through ninety- n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923120" y="3168720"/>
            <a:ext cx="60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single male gradu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3515400" y="312408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umn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920960" y="3168720"/>
            <a:ext cx="59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 Regardless or Irregardles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407240" y="3200400"/>
            <a:ext cx="63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single female gradu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819240" y="312408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um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600200" y="3276720"/>
            <a:ext cx="60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male and female graduates mix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3666960" y="320040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umn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371600" y="3276720"/>
            <a:ext cx="665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mory clue for attenda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2209680" y="3124080"/>
            <a:ext cx="50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endants scurry like ants at HC t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981080" y="3124080"/>
            <a:ext cx="551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 ‘sophos’ and ‘moros’ mean in Lat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2527920" y="3124080"/>
            <a:ext cx="40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se” and “Moron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371600" y="3124080"/>
            <a:ext cx="61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 we call the games we play in between class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3288960" y="3200400"/>
            <a:ext cx="21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ramu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441600" y="320040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ardl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1889280" y="3168720"/>
            <a:ext cx="512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Latin name for the school son or the school one graduates fro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3366360" y="3200400"/>
            <a:ext cx="240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ma M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147760" y="3124080"/>
            <a:ext cx="48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Lend a verb or a nou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4019760" y="32004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er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2133720" y="3048120"/>
            <a:ext cx="457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mory clue for spelling Surpri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893960" y="3168720"/>
            <a:ext cx="585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are two R’s and two S’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212072</cp:lastModifiedBy>
  <dcterms:modified xsi:type="dcterms:W3CDTF">2010-05-18T19:30:38Z</dcterms:modified>
  <cp:revision>19</cp:revision>
  <dc:subject/>
  <dc:title>Jeopardy</dc:title>
</cp:coreProperties>
</file>